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518-8949-49C2-B1FA-C6BA1A5B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33F-E36B-4C53-927F-272C7C3A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3A7-E876-4300-9F37-81740BC1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876-BC9E-45B0-9527-81FB98B4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F40-F2D3-4C40-BEEF-8A5243E6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8E1-80CB-4D19-8AA0-867D173D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B86-1822-4730-AF28-62FC1B3A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F42-7C74-489F-83F2-AC5C087F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C2F-1E48-4571-8F31-AAB2E311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6036-2910-4F6B-ADDE-A61DCEFF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4B8-AF8D-4AFA-8556-2A99931D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906-3924-42C4-988E-527BCDC1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E2CA-A133-4635-92EF-F5355FD6D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121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00720" y="-360"/>
            <a:ext cx="4643280" cy="5529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равила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 условиях Ч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аникуйте и не поддавайтесь пан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медленно звоните по городскому телефон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о мобильной связи : БИЛАЙН-101, МЕГАФОН-101, МТС-1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лючите радио, телевизор, прослушайте информ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яйте рекомендации специалистов (спасателей, пожарных, сотрудников милиции, медицинских работник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оздавайте условий, препятствующих и затрудняющих действия спасателей, пожарных, мед. работников.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4521240" cy="5531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79280" y="1197000"/>
            <a:ext cx="428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1 - Спасатели и пожарные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7080" y="2205000"/>
            <a:ext cx="428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2 - Милиция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2760" y="3324240"/>
            <a:ext cx="428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3 - Скорая помощь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7960" y="4335480"/>
            <a:ext cx="417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4 - Аварийная служба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аза.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00360" y="549360"/>
            <a:ext cx="1584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мятка.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3840" y="5460840"/>
            <a:ext cx="8853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-----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решок вручения памя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 памяткой ознакомлен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обственник (квартиросъёмщик, проживающий) 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Члены семьи: _________________________________________________________________________________________________________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-360"/>
            <a:ext cx="4500720" cy="558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Оповещение при угрозе или возникновении  ЧС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рены и прерывистые гудки предприятий или транспортных средств означают сигн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НИМАНИЕ ВСЕМ!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лышав его, немедленно включите радио или телевизор, прослушайте информационное сообщение о чрезвычайной ситуации, о правилах поведения и Ваших дейст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 о случившемся будет многократно повторяться и по мере развития событий уточня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еление, проживающее вблизи потенциально опасных предприятий, будет оповещаться дежурным персоналом предприятий по локальным сетям оповещения этих предприятий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643280" cy="5185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41760" y="4330800"/>
            <a:ext cx="4392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нужно знать!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380360" y="836640"/>
            <a:ext cx="17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мятка.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6440" y="5537160"/>
            <a:ext cx="8853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-----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решок вручения памя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 памяткой ознакомлен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обственник (квартиросъёмщик, проживающий) 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Члены семьи: _________________________________________________________________________________________________________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572000" cy="5661000"/>
          </a:xfrm>
          <a:prstGeom prst="rect">
            <a:avLst/>
          </a:prstGeom>
          <a:solidFill>
            <a:srgbClr val="8dcac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ействия населения при внезапном обрушении з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5050"/>
                </a:solidFill>
                <a:latin typeface="Arial"/>
              </a:rPr>
              <a:t>Обнаружив, что здание теряет свою устойчивость, следует как можно быстрее покинуть ег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зять документы, деньги и предметы первой необходим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кидая помещение, спускайтесь по лестнице, а не на лиф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секайте панику, давку в дверях, останавливайте тех, кто собирается прыгать с балконов и окон  из этажей выше перво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казавшись на улице, не стойте вблизи зданий, а перейдите на открытое простран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если нет возможности покинуть здание, то займите самое безопасное место: проёмы капитальных внутренних стен, углы, образованные капитальными стенами, под балками каркаса. если возможно, спрячьтесь под стол – он защитит Вас от падающих предметов и облом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если с вами дети – укройте их соб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кройте дверь из квартиры, чтобы обеспечить выход в случае необходим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ержитесь подальше от окон, электроприборов, немедленно отключите воду, электричество и газ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е выходите на балко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е пользуйтесь спичками - возможна утечка газ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если возник пожар – попытайтесь сразу его потуш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22760" y="247680"/>
            <a:ext cx="4572000" cy="5396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7496280" y="549360"/>
            <a:ext cx="1647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мятка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826160" y="4424400"/>
            <a:ext cx="417672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нужно знать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>
            <a:off x="136440" y="5549760"/>
            <a:ext cx="8853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-----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решок вручения памя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 памяткой ознакомлен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обственник (квартиросъёмщик, проживающий) 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Члены семьи: _________________________________________________________________________________________________________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572000" cy="5784840"/>
          </a:xfrm>
          <a:prstGeom prst="rect">
            <a:avLst/>
          </a:prstGeom>
          <a:solidFill>
            <a:srgbClr val="8dcac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ействия населения при угрозе террористических     а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трогайте в вагоне поезда (метро), подъезде дома или на улице бесхозные вещи (сумки, пакеты и т. п.) и не подпускайте к ним друг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общите о находке сотруднику мили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присутствии террористов не выражайте своё неудовольствие, воздержитесь от резких движений, крика и сто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 угрозе применения террористами оружия ложитесь на живот, защищая голову руками, подальше от окон, застеклённых дверей, проходов , лестни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случае ранения двигайтесь как можно меньше – это уменьшит кровопотер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сли произошел взрыв – примите меры к недопущению пожара и паники, окажите первую медицинскую помощь пострадавш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мите меры по спасению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старайтесь запомнить приметы подозрительных людей и сообщите их прибывшим сотрудникам спецслуж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0" y="0"/>
            <a:ext cx="4572000" cy="5805360"/>
          </a:xfrm>
          <a:prstGeom prst="rect">
            <a:avLst/>
          </a:prstGeom>
          <a:solidFill>
            <a:srgbClr val="8dcac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59400" y="-4680"/>
            <a:ext cx="4572000" cy="5805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6877080" y="333360"/>
            <a:ext cx="1503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мятк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0400" y="4716360"/>
            <a:ext cx="3958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нужно знать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166680" y="5595840"/>
            <a:ext cx="8853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-----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решок вручения памя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 памяткой ознакомлен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обственник (квартиросъёмщик, проживающий) 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Члены семьи: _________________________________________________________________________________________________________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643280" cy="5816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ействия населения при химической ава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ри опасности отравления АХОВ 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ыстро выйти из района заражения: укрыться в защищенном сооружении(аммиак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дняться на верхние этажи зданий(хлор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рметизировать помещ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пользовать противогазы всех типов, при их отсутствии - ватно-марлевые повязки, смоченные водой или 2-5% растворами питьевой соды(хлор), лимонной или уксусной кислоты(аммиак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 опасности отравления на улице необходимо быстро выйти из района заражения, перпендикулярно направлению ветра, при возможности укрыться в защитном сооружен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сли вы находитесь дома, то нужно провести герметизацию окон и дверей кусками материи, смоченными содовым раствором и ждать сообщений о дальнейших действи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общественном месте(театре, магазине, на стадионе и т. д.) необходимо следовать указаниям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дминистрации о порядке поведения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-360"/>
            <a:ext cx="4495680" cy="5854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3280" y="31680"/>
            <a:ext cx="4500720" cy="5556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7380360" y="476280"/>
            <a:ext cx="165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мят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788000" y="4297320"/>
            <a:ext cx="410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нужно знать!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120600" y="5626080"/>
            <a:ext cx="8853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-----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решок вручения памя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 памяткой ознакомлен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обственник (квартиросъёмщик, проживающий) 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Члены семьи: _________________________________________________________________________________________________________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643280" cy="5794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казание первой медицинской помощи.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и отравлении  хлор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адавшего необходимо немедленно вывести на свежий воздух, плотнее укрыть и дать подышать парами воды или аэрозолем 0,5% раствора питьевой соды в течение 15 мину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озволяйте пострадавшему передвигаться самостоя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нспортировать можно только в лежачем положе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необходимости – сделать искусственное дыхание способом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т в ро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м средством для борьбы с хлором является во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и отравлении  аммиаком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адавшего нужно немедленно вынести на свежий возду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нспортировать только в лежачем положе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отеке легких искусственное дыхание делать нельзя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3280" y="-360"/>
            <a:ext cx="4500720" cy="577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83080" y="31680"/>
            <a:ext cx="4680000" cy="5505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7451640" y="476280"/>
            <a:ext cx="151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мятк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97560" y="4140360"/>
            <a:ext cx="4248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нужно уметь!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/>
          <p:nvPr/>
        </p:nvSpPr>
        <p:spPr>
          <a:xfrm>
            <a:off x="123840" y="5586480"/>
            <a:ext cx="8853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-----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решок вручения памя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 памяткой ознакомлен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обственник (квартиросъёмщик, проживающий) 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Члены семьи: _________________________________________________________________________________________________________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500720" cy="544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ействия населения при  ртутных отравления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Ртуть и её соединения ядовиты. Она легко испаряется даже при низкой температур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имптомы появляются через 8-24 часа и выражаются в общей слабости, головной боли, болях при глотании, повышении температуры, несколько позже наблюдается болезненность десен, боли в животе, желудочные расстройства, иногда воспаление легк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 разливе большого количества ртути необходимо быстро покинуть опасное место и срочно вызвать специалистов (оперативный дежурный по ГОЧС административного округ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менить одежду, принять душ, прополоскать рот 0,25% раствором марганца и почистить зуб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сли дома разбился обычный градусник, то небольшое количество вытекшей из него ртути можно собрать с помощью обычной медицинской груши. Место, где находилась ртуть, протереть влажной тряпкой и вымыть ру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ЗАПРЕЩАЕТСЯ для сбора ртути использовать пылесос, выливать в раковину или канализацию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00720" y="-360"/>
            <a:ext cx="4643280" cy="544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643280" cy="518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627440" y="3919680"/>
            <a:ext cx="41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нужно знать!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380360" y="476280"/>
            <a:ext cx="1512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мятка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1840" y="5400720"/>
            <a:ext cx="8853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-----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решок вручения памя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 памяткой ознакомлен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обственник (квартиросъёмщик, проживающий) 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Члены семьи: _________________________________________________________________________________________________________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7:20:06Z</dcterms:created>
  <dc:creator>PC-P4</dc:creator>
  <dc:description/>
  <dc:language>en-US</dc:language>
  <cp:lastModifiedBy>androsov</cp:lastModifiedBy>
  <dcterms:modified xsi:type="dcterms:W3CDTF">2014-04-07T06:20:04Z</dcterms:modified>
  <cp:revision>29</cp:revision>
  <dc:subject/>
  <dc:title>Слайд 1</dc:title>
</cp:coreProperties>
</file>